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871-1197-4DA6-96A6-EF6620DB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B52-FBE1-45F4-A4E3-B94DBCD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1733A-2176-4FB9-85BF-82152F71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180C8-3B74-4938-AB45-CFC8CB1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5E951-5E72-48EB-BA71-CF71554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34A23-39A6-49A6-B6A8-3070A50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81C08-CAB6-45C0-904A-363EC50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BEDA6-AB85-432A-8754-A6246AD8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32B5D-6D6B-4DD5-B05A-0FE07C48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168CF-75E9-423A-B51F-249FD1D6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0785-2F8B-49A8-ADCC-F8625396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48693-3DA3-4546-9CDF-DD2A625B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D86-3F4E-4A94-87CF-5700E479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7FA51-E426-4737-8EA7-2448ACE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14C6-920A-4A1C-B01D-74ADD180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E2457-0B0A-4E65-AED4-8CFB5680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0BEEB-B796-4BE7-9451-E2B14E11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8E17D-2234-48ED-BC18-7E5EC77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AA08-3937-46C1-A1A9-B523F2F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D67EC-922A-4E9C-B41C-40C3CD6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F910F-4278-4BFA-BF68-9DA530F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CB0F9-ED86-42EC-9C9C-5EE460B4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316B9-86C6-467E-AD21-5A40B4A3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399-0D18-42FD-A914-3C1B56A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B0282-2F38-4D4A-870E-63CA85E3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D9B1-E8E3-4991-9028-562060E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C9AFA-823C-46A0-BFD1-32BDA38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1FBD7-006C-4556-86A1-8CA2390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0CA9-85BC-4597-ACBD-D9FD3D2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D07B-D23F-49B4-9276-6C48956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8509B-11CD-451A-AFD2-5C533E1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ABABF-FA3D-4A7A-91D4-49661C5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F647B-746B-4BC1-BFE1-6F2F7F6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3450F-994B-4A4A-A224-3CED40D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94D5-02C0-49C5-B9A9-85058C3E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D7CD-B39F-4BED-8212-14659BAA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E053-8F28-47D3-896A-0008F453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D549-D903-40E0-A572-D555F94F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0F2-06A1-4EAA-B36A-C6D6D6E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F56-447E-4557-9EFB-5A966AE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B95B-F9CD-4780-B3E6-2F93A2C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6AA5-C1BC-4596-94AD-19BC5A2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198A-6820-4116-A4AA-76F5DA4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B9A-DE57-42B7-A25A-FAACF97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015-15EA-4A78-9F69-AF0A337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366-E312-4F84-A68E-816D7BD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3CD-9F4F-4036-8D51-71D9F62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5455-7958-42F1-8243-3051AD4F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4D0-4DA0-46F9-BA60-7A5DDC74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3D2-3A08-4FCC-A73D-CE2AF11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52AB-AE59-45FC-BBD5-AEBAB62A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6019-26E9-40E4-A5FE-D1D9679B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404A-4840-43F7-A4DA-112C352E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581A-44D3-4540-AEB1-C11A8FD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ED50-815C-43A0-A140-E2446C5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88A-2626-4A26-9F17-8EB96BA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578E-E8EB-4F32-9F0E-EB06968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A508-76D4-4B8B-AB7E-A7EA0B9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2644-646F-49FC-8F69-2438425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1BEA-4819-467C-9750-4C78457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2A5D-351F-4B3E-AD48-37A2E2A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D294-3D86-4128-85CC-3893FC8C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1110-EDED-4CD7-90C0-37E7E87C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BC3E-7415-4676-A39B-54409D4E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8ACF-4F32-4076-8893-4C407C4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2A0B-A57D-40AD-8B5C-B5B2EF0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C7F-F841-406F-8F5B-35E25B4B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330D-0DAA-45BD-A0FC-57CC3F81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F6D2-9A5F-424F-A66C-0E60AE4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12A6-F34F-4D81-A062-DDFA328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BEA1-163B-4CD9-B95E-F8879335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5FEB-8945-4386-B9B8-8E58784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E0BA-21C6-41ED-BC3F-0577D70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31CA-5F57-43D6-B8ED-657A8B1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3BD4-ECBA-4AD7-BF10-89E55C80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87C7-7B79-4FBD-856B-1E9313A6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0B94B-BB73-48EA-B506-F5D1D3DD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C51-C631-4400-AC50-538E9E8F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2528-63D1-4304-A296-702A356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386B-0AAB-4E34-BDE6-2F192DC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52FA-95AD-41F0-B991-3B07D233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49BA6-1A97-49C2-B069-A0FDA37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4E7B-1528-465F-B4DF-6003049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7834-C191-4925-9D2D-E12B0B07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993D-F655-4252-99C9-A23DF8B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CB0F-1746-40D4-BA45-B077480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0489-649F-449F-B73A-5F674F1C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196A-95A3-4424-BBE7-5AE4E494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025-F7D8-492C-9191-01BA3348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41A50-95D3-45AD-AAC1-A64D950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81D08-1571-4CB2-A0E2-34C3932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7F4D-B4F8-41B8-9E8C-E8FE29A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83C18-A911-4708-B9EC-93C361B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1A9B-9D09-48A4-8515-D1200E63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E5502-7BDC-44D6-956F-06E1A71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2EC5-D53C-439F-8E72-FF441E1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2D011-2927-4277-8702-4DB0C0E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6049-B4F1-408D-BF56-D3CEFE7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CD48-8AC8-4496-8DE3-E5C5353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BB7-8A72-4C30-B61E-B837FBA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5B35-D26D-4E97-BE91-60F6F05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DA0D-52A9-409C-A91B-203CFD2C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2AF4-565C-4452-8396-DCC82804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D194-9863-4C30-B1AA-8A0B9167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5D3A-C307-4A10-BC06-1C40889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748DA-76B1-4F0B-8890-304A5186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9C62-8994-4E65-B41C-7BA1361D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C3DD-987B-4E88-A8C3-55F2379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1D40-296F-4366-97FF-368134B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1EFC-ADA4-4EC8-80C8-AA5A7E9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C42-F4DF-4AC3-ADE2-094053B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11F8-19E9-4249-A8FD-86BFE69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339BC-0561-45BA-AACE-B2AD44A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BCA8-703B-4BEE-88C8-539D11F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1DB5-5C3C-4BD3-9EA4-EB9F5868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4044-D1D5-403F-9A6F-11026C4C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744B-FE11-4090-80E2-14286B3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7090-3F8A-4811-9130-D34A295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CE1E-8CCE-41B2-8584-02B1005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8174A-EF28-488B-8166-EB890366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6D74-CB2A-4A3E-BF95-29C470C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341-EB53-4767-AEC2-1537028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A1C6-2DDC-49C5-8BE2-D16CF04C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CAC3-A069-47C4-9E0E-C0827C7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609CF-E6F5-4CF3-9FD1-9983687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F2399-E6B3-4CD9-AEEF-83F6A39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7B3E-6A11-4ED0-9DA4-9F1A2F6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88C0-C8AB-4C3A-BFC3-7701E993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7697-0517-4057-8BDA-44AC7D59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F31A6-7BD7-40F7-996D-AF70478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0AD1-190F-4E26-9A09-BED8CB42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5E42B-6E0D-4E58-B466-96132EF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9C2-9E9A-45C0-8F2C-DF3A4102FE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9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D75-F2A4-4144-866E-EC1C30CBFE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E48-2268-4B52-BBE4-FB8269EC2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D13-EAAB-4A88-8A1D-2A1FFA9953F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E9B-CEFB-4EA9-ADE2-4C4D3AD5B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2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2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2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3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3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4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4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5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5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5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6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6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6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7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7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7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A5D-2D72-419E-8095-B1B087BCD6F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8976-FA81-4C34-AF2C-D1650A43B9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DEB2-3EBB-44E9-9A9C-97B760241E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011320" y="245160"/>
            <a:ext cx="6895800" cy="5452920"/>
            <a:chOff x="2011320" y="245160"/>
            <a:chExt cx="6895800" cy="5452920"/>
          </a:xfrm>
        </p:grpSpPr>
        <p:grpSp>
          <p:nvGrpSpPr>
            <p:cNvPr id="486" name="Group 3"/>
            <p:cNvGrpSpPr/>
            <p:nvPr/>
          </p:nvGrpSpPr>
          <p:grpSpPr>
            <a:xfrm>
              <a:off x="3493800" y="955440"/>
              <a:ext cx="943560" cy="709200"/>
              <a:chOff x="3493800" y="955440"/>
              <a:chExt cx="943560" cy="709200"/>
            </a:xfrm>
          </p:grpSpPr>
          <p:sp>
            <p:nvSpPr>
              <p:cNvPr id="487" name="Oval 4"/>
              <p:cNvSpPr/>
              <p:nvPr/>
            </p:nvSpPr>
            <p:spPr>
              <a:xfrm>
                <a:off x="3493800" y="955440"/>
                <a:ext cx="94356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"/>
              <p:cNvSpPr/>
              <p:nvPr/>
            </p:nvSpPr>
            <p:spPr>
              <a:xfrm>
                <a:off x="3832560" y="1266840"/>
                <a:ext cx="22968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6"/>
            <p:cNvGrpSpPr/>
            <p:nvPr/>
          </p:nvGrpSpPr>
          <p:grpSpPr>
            <a:xfrm>
              <a:off x="2011320" y="245160"/>
              <a:ext cx="6895800" cy="5452920"/>
              <a:chOff x="2011320" y="245160"/>
              <a:chExt cx="6895800" cy="5452920"/>
            </a:xfrm>
          </p:grpSpPr>
          <p:grpSp>
            <p:nvGrpSpPr>
              <p:cNvPr id="490" name="Group 7"/>
              <p:cNvGrpSpPr/>
              <p:nvPr/>
            </p:nvGrpSpPr>
            <p:grpSpPr>
              <a:xfrm>
                <a:off x="2011320" y="245160"/>
                <a:ext cx="6890760" cy="5452920"/>
                <a:chOff x="2011320" y="245160"/>
                <a:chExt cx="6890760" cy="5452920"/>
              </a:xfrm>
            </p:grpSpPr>
            <p:grpSp>
              <p:nvGrpSpPr>
                <p:cNvPr id="491" name="Group 8"/>
                <p:cNvGrpSpPr/>
                <p:nvPr/>
              </p:nvGrpSpPr>
              <p:grpSpPr>
                <a:xfrm>
                  <a:off x="3736800" y="1267920"/>
                  <a:ext cx="3598200" cy="2650320"/>
                  <a:chOff x="3736800" y="1267920"/>
                  <a:chExt cx="3598200" cy="2650320"/>
                </a:xfrm>
              </p:grpSpPr>
              <p:sp>
                <p:nvSpPr>
                  <p:cNvPr id="492" name="Oval 9"/>
                  <p:cNvSpPr/>
                  <p:nvPr/>
                </p:nvSpPr>
                <p:spPr>
                  <a:xfrm>
                    <a:off x="3736800" y="1267920"/>
                    <a:ext cx="3598200" cy="265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0"/>
                  <p:cNvSpPr/>
                  <p:nvPr/>
                </p:nvSpPr>
                <p:spPr>
                  <a:xfrm>
                    <a:off x="5109120" y="223776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1"/>
                <p:cNvGrpSpPr/>
                <p:nvPr/>
              </p:nvGrpSpPr>
              <p:grpSpPr>
                <a:xfrm>
                  <a:off x="2011320" y="245160"/>
                  <a:ext cx="6890760" cy="5452920"/>
                  <a:chOff x="2011320" y="245160"/>
                  <a:chExt cx="6890760" cy="5452920"/>
                </a:xfrm>
              </p:grpSpPr>
              <p:grpSp>
                <p:nvGrpSpPr>
                  <p:cNvPr id="495" name="Group 12"/>
                  <p:cNvGrpSpPr/>
                  <p:nvPr/>
                </p:nvGrpSpPr>
                <p:grpSpPr>
                  <a:xfrm>
                    <a:off x="5761440" y="2322360"/>
                    <a:ext cx="2558880" cy="2743560"/>
                    <a:chOff x="5761440" y="2322360"/>
                    <a:chExt cx="2558880" cy="2743560"/>
                  </a:xfrm>
                </p:grpSpPr>
                <p:sp>
                  <p:nvSpPr>
                    <p:cNvPr id="496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4"/>
                    <p:cNvSpPr/>
                    <p:nvPr/>
                  </p:nvSpPr>
                  <p:spPr>
                    <a:xfrm rot="2711400">
                      <a:off x="7133040" y="414468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5"/>
                  <p:cNvGrpSpPr/>
                  <p:nvPr/>
                </p:nvGrpSpPr>
                <p:grpSpPr>
                  <a:xfrm>
                    <a:off x="5786640" y="2148120"/>
                    <a:ext cx="3041640" cy="2530080"/>
                    <a:chOff x="5786640" y="2148120"/>
                    <a:chExt cx="3041640" cy="2530080"/>
                  </a:xfrm>
                </p:grpSpPr>
                <p:sp>
                  <p:nvSpPr>
                    <p:cNvPr id="499" name="Freeform 16"/>
                    <p:cNvSpPr/>
                    <p:nvPr/>
                  </p:nvSpPr>
                  <p:spPr>
                    <a:xfrm rot="2103600">
                      <a:off x="5705640" y="2752560"/>
                      <a:ext cx="22392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7"/>
                    <p:cNvSpPr/>
                    <p:nvPr/>
                  </p:nvSpPr>
                  <p:spPr>
                    <a:xfrm rot="2103600">
                      <a:off x="7543080" y="372240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8"/>
                  <p:cNvGrpSpPr/>
                  <p:nvPr/>
                </p:nvGrpSpPr>
                <p:grpSpPr>
                  <a:xfrm>
                    <a:off x="5776200" y="2063880"/>
                    <a:ext cx="3097440" cy="1992960"/>
                    <a:chOff x="5776200" y="2063880"/>
                    <a:chExt cx="3097440" cy="1992960"/>
                  </a:xfrm>
                </p:grpSpPr>
                <p:sp>
                  <p:nvSpPr>
                    <p:cNvPr id="502" name="Freeform 19"/>
                    <p:cNvSpPr/>
                    <p:nvPr/>
                  </p:nvSpPr>
                  <p:spPr>
                    <a:xfrm rot="1582800">
                      <a:off x="5747760" y="2520360"/>
                      <a:ext cx="21441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20"/>
                    <p:cNvSpPr/>
                    <p:nvPr/>
                  </p:nvSpPr>
                  <p:spPr>
                    <a:xfrm rot="1582800">
                      <a:off x="7653600" y="324504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21"/>
                  <p:cNvGrpSpPr/>
                  <p:nvPr/>
                </p:nvGrpSpPr>
                <p:grpSpPr>
                  <a:xfrm>
                    <a:off x="5768280" y="1971720"/>
                    <a:ext cx="3133800" cy="1607760"/>
                    <a:chOff x="5768280" y="1971720"/>
                    <a:chExt cx="3133800" cy="1607760"/>
                  </a:xfrm>
                </p:grpSpPr>
                <p:sp>
                  <p:nvSpPr>
                    <p:cNvPr id="505" name="Freeform 22"/>
                    <p:cNvSpPr/>
                    <p:nvPr/>
                  </p:nvSpPr>
                  <p:spPr>
                    <a:xfrm rot="1080000">
                      <a:off x="5781240" y="2281320"/>
                      <a:ext cx="207000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23"/>
                    <p:cNvSpPr/>
                    <p:nvPr/>
                  </p:nvSpPr>
                  <p:spPr>
                    <a:xfrm rot="1080000">
                      <a:off x="7716600" y="2774160"/>
                      <a:ext cx="111204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24"/>
                  <p:cNvGrpSpPr/>
                  <p:nvPr/>
                </p:nvGrpSpPr>
                <p:grpSpPr>
                  <a:xfrm>
                    <a:off x="5805000" y="1880280"/>
                    <a:ext cx="2941200" cy="999720"/>
                    <a:chOff x="5805000" y="1880280"/>
                    <a:chExt cx="2941200" cy="999720"/>
                  </a:xfrm>
                </p:grpSpPr>
                <p:sp>
                  <p:nvSpPr>
                    <p:cNvPr id="508" name="Freeform 25"/>
                    <p:cNvSpPr/>
                    <p:nvPr/>
                  </p:nvSpPr>
                  <p:spPr>
                    <a:xfrm rot="463200">
                      <a:off x="5821920" y="2006280"/>
                      <a:ext cx="19062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26"/>
                    <p:cNvSpPr/>
                    <p:nvPr/>
                  </p:nvSpPr>
                  <p:spPr>
                    <a:xfrm rot="463200">
                      <a:off x="7686720" y="2212560"/>
                      <a:ext cx="102348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27"/>
                  <p:cNvGrpSpPr/>
                  <p:nvPr/>
                </p:nvGrpSpPr>
                <p:grpSpPr>
                  <a:xfrm>
                    <a:off x="5851080" y="1815480"/>
                    <a:ext cx="2658960" cy="442800"/>
                    <a:chOff x="5851080" y="1815480"/>
                    <a:chExt cx="2658960" cy="442800"/>
                  </a:xfrm>
                </p:grpSpPr>
                <p:sp>
                  <p:nvSpPr>
                    <p:cNvPr id="511" name="Freeform 28"/>
                    <p:cNvSpPr/>
                    <p:nvPr/>
                  </p:nvSpPr>
                  <p:spPr>
                    <a:xfrm rot="21515400">
                      <a:off x="5853960" y="185184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29"/>
                    <p:cNvSpPr/>
                    <p:nvPr/>
                  </p:nvSpPr>
                  <p:spPr>
                    <a:xfrm rot="21515400">
                      <a:off x="7576560" y="1826640"/>
                      <a:ext cx="92808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30"/>
                  <p:cNvGrpSpPr/>
                  <p:nvPr/>
                </p:nvGrpSpPr>
                <p:grpSpPr>
                  <a:xfrm>
                    <a:off x="5788440" y="1306800"/>
                    <a:ext cx="2363760" cy="785520"/>
                    <a:chOff x="5788440" y="1306800"/>
                    <a:chExt cx="2363760" cy="785520"/>
                  </a:xfrm>
                </p:grpSpPr>
                <p:sp>
                  <p:nvSpPr>
                    <p:cNvPr id="514" name="Freeform 31"/>
                    <p:cNvSpPr/>
                    <p:nvPr/>
                  </p:nvSpPr>
                  <p:spPr>
                    <a:xfrm rot="20797200">
                      <a:off x="5798160" y="1655280"/>
                      <a:ext cx="15213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32"/>
                    <p:cNvSpPr/>
                    <p:nvPr/>
                  </p:nvSpPr>
                  <p:spPr>
                    <a:xfrm rot="20797200">
                      <a:off x="7301160" y="139500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33"/>
                  <p:cNvGrpSpPr/>
                  <p:nvPr/>
                </p:nvGrpSpPr>
                <p:grpSpPr>
                  <a:xfrm>
                    <a:off x="2647080" y="2477520"/>
                    <a:ext cx="2552400" cy="2739960"/>
                    <a:chOff x="2647080" y="2477520"/>
                    <a:chExt cx="2552400" cy="2739960"/>
                  </a:xfrm>
                </p:grpSpPr>
                <p:sp>
                  <p:nvSpPr>
                    <p:cNvPr id="517" name="Freeform 34"/>
                    <p:cNvSpPr/>
                    <p:nvPr/>
                  </p:nvSpPr>
                  <p:spPr>
                    <a:xfrm flipH="1" rot="18888600">
                      <a:off x="3251880" y="317448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35"/>
                    <p:cNvSpPr/>
                    <p:nvPr/>
                  </p:nvSpPr>
                  <p:spPr>
                    <a:xfrm flipH="1" rot="18888600">
                      <a:off x="2692080" y="4299480"/>
                      <a:ext cx="1141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36"/>
                  <p:cNvGrpSpPr/>
                  <p:nvPr/>
                </p:nvGrpSpPr>
                <p:grpSpPr>
                  <a:xfrm>
                    <a:off x="2084400" y="2369880"/>
                    <a:ext cx="3043080" cy="2527200"/>
                    <a:chOff x="2084400" y="2369880"/>
                    <a:chExt cx="3043080" cy="2527200"/>
                  </a:xfrm>
                </p:grpSpPr>
                <p:sp>
                  <p:nvSpPr>
                    <p:cNvPr id="520" name="Freeform 37"/>
                    <p:cNvSpPr/>
                    <p:nvPr/>
                  </p:nvSpPr>
                  <p:spPr>
                    <a:xfrm flipH="1" rot="19496400">
                      <a:off x="2973600" y="2972160"/>
                      <a:ext cx="22327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096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2040840" y="2283480"/>
                    <a:ext cx="3097440" cy="1991880"/>
                    <a:chOff x="2040840" y="2283480"/>
                    <a:chExt cx="3097440" cy="1991880"/>
                  </a:xfrm>
                </p:grpSpPr>
                <p:sp>
                  <p:nvSpPr>
                    <p:cNvPr id="523" name="Freeform 40"/>
                    <p:cNvSpPr/>
                    <p:nvPr/>
                  </p:nvSpPr>
                  <p:spPr>
                    <a:xfrm flipH="1" rot="20017200">
                      <a:off x="3022920" y="2739960"/>
                      <a:ext cx="21434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4876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2"/>
                  <p:cNvGrpSpPr/>
                  <p:nvPr/>
                </p:nvGrpSpPr>
                <p:grpSpPr>
                  <a:xfrm>
                    <a:off x="2011320" y="2192400"/>
                    <a:ext cx="3135240" cy="1606680"/>
                    <a:chOff x="2011320" y="2192400"/>
                    <a:chExt cx="3135240" cy="1606680"/>
                  </a:xfrm>
                </p:grpSpPr>
                <p:sp>
                  <p:nvSpPr>
                    <p:cNvPr id="526" name="Freeform 43"/>
                    <p:cNvSpPr/>
                    <p:nvPr/>
                  </p:nvSpPr>
                  <p:spPr>
                    <a:xfrm flipH="1" rot="20520000">
                      <a:off x="3062880" y="2502000"/>
                      <a:ext cx="20703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44"/>
                    <p:cNvSpPr/>
                    <p:nvPr/>
                  </p:nvSpPr>
                  <p:spPr>
                    <a:xfrm flipH="1" rot="20520000">
                      <a:off x="2084400" y="2993760"/>
                      <a:ext cx="111168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45"/>
                  <p:cNvGrpSpPr/>
                  <p:nvPr/>
                </p:nvGrpSpPr>
                <p:grpSpPr>
                  <a:xfrm>
                    <a:off x="2166840" y="2100240"/>
                    <a:ext cx="2940120" cy="999360"/>
                    <a:chOff x="2166840" y="2100240"/>
                    <a:chExt cx="2940120" cy="999360"/>
                  </a:xfrm>
                </p:grpSpPr>
                <p:sp>
                  <p:nvSpPr>
                    <p:cNvPr id="529" name="Freeform 46"/>
                    <p:cNvSpPr/>
                    <p:nvPr/>
                  </p:nvSpPr>
                  <p:spPr>
                    <a:xfrm flipH="1" rot="21136800">
                      <a:off x="3184560" y="2226240"/>
                      <a:ext cx="19047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47"/>
                    <p:cNvSpPr/>
                    <p:nvPr/>
                  </p:nvSpPr>
                  <p:spPr>
                    <a:xfrm flipH="1" rot="21136800">
                      <a:off x="2202120" y="243216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48"/>
                  <p:cNvGrpSpPr/>
                  <p:nvPr/>
                </p:nvGrpSpPr>
                <p:grpSpPr>
                  <a:xfrm>
                    <a:off x="2402280" y="2033640"/>
                    <a:ext cx="2661120" cy="447480"/>
                    <a:chOff x="2402280" y="2033640"/>
                    <a:chExt cx="2661120" cy="447480"/>
                  </a:xfrm>
                </p:grpSpPr>
                <p:sp>
                  <p:nvSpPr>
                    <p:cNvPr id="532" name="Freeform 49"/>
                    <p:cNvSpPr/>
                    <p:nvPr/>
                  </p:nvSpPr>
                  <p:spPr>
                    <a:xfrm flipH="1" rot="84600">
                      <a:off x="3329640" y="206892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50"/>
                    <p:cNvSpPr/>
                    <p:nvPr/>
                  </p:nvSpPr>
                  <p:spPr>
                    <a:xfrm flipH="1" rot="84600">
                      <a:off x="2407320" y="2044800"/>
                      <a:ext cx="92808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1"/>
                  <p:cNvGrpSpPr/>
                  <p:nvPr/>
                </p:nvGrpSpPr>
                <p:grpSpPr>
                  <a:xfrm>
                    <a:off x="2759400" y="1523520"/>
                    <a:ext cx="2364120" cy="784440"/>
                    <a:chOff x="2759400" y="1523520"/>
                    <a:chExt cx="2364120" cy="784440"/>
                  </a:xfrm>
                </p:grpSpPr>
                <p:sp>
                  <p:nvSpPr>
                    <p:cNvPr id="535" name="Freeform 52"/>
                    <p:cNvSpPr/>
                    <p:nvPr/>
                  </p:nvSpPr>
                  <p:spPr>
                    <a:xfrm flipH="1" rot="802800">
                      <a:off x="3594600" y="187056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53"/>
                    <p:cNvSpPr/>
                    <p:nvPr/>
                  </p:nvSpPr>
                  <p:spPr>
                    <a:xfrm flipH="1" rot="802800">
                      <a:off x="2796120" y="1611720"/>
                      <a:ext cx="8136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54"/>
                  <p:cNvGrpSpPr/>
                  <p:nvPr/>
                </p:nvGrpSpPr>
                <p:grpSpPr>
                  <a:xfrm>
                    <a:off x="2885400" y="1237680"/>
                    <a:ext cx="2327400" cy="1083240"/>
                    <a:chOff x="2885400" y="1237680"/>
                    <a:chExt cx="2327400" cy="1083240"/>
                  </a:xfrm>
                </p:grpSpPr>
                <p:sp>
                  <p:nvSpPr>
                    <p:cNvPr id="538" name="Freeform 55"/>
                    <p:cNvSpPr/>
                    <p:nvPr/>
                  </p:nvSpPr>
                  <p:spPr>
                    <a:xfrm flipH="1" rot="1278000">
                      <a:off x="3694680" y="1788480"/>
                      <a:ext cx="15217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56"/>
                    <p:cNvSpPr/>
                    <p:nvPr/>
                  </p:nvSpPr>
                  <p:spPr>
                    <a:xfrm flipH="1" rot="1278000">
                      <a:off x="2932560" y="1372680"/>
                      <a:ext cx="8222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7"/>
                  <p:cNvGrpSpPr/>
                  <p:nvPr/>
                </p:nvGrpSpPr>
                <p:grpSpPr>
                  <a:xfrm>
                    <a:off x="3161160" y="833760"/>
                    <a:ext cx="2169360" cy="1503720"/>
                    <a:chOff x="3161160" y="833760"/>
                    <a:chExt cx="2169360" cy="1503720"/>
                  </a:xfrm>
                </p:grpSpPr>
                <p:sp>
                  <p:nvSpPr>
                    <p:cNvPr id="541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59"/>
                    <p:cNvSpPr/>
                    <p:nvPr/>
                  </p:nvSpPr>
                  <p:spPr>
                    <a:xfrm flipH="1" rot="2028600">
                      <a:off x="3207600" y="102492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60"/>
                  <p:cNvGrpSpPr/>
                  <p:nvPr/>
                </p:nvGrpSpPr>
                <p:grpSpPr>
                  <a:xfrm>
                    <a:off x="3434040" y="437400"/>
                    <a:ext cx="1988280" cy="1830240"/>
                    <a:chOff x="3434040" y="437400"/>
                    <a:chExt cx="1988280" cy="1830240"/>
                  </a:xfrm>
                </p:grpSpPr>
                <p:sp>
                  <p:nvSpPr>
                    <p:cNvPr id="544" name="Freeform 61"/>
                    <p:cNvSpPr/>
                    <p:nvPr/>
                  </p:nvSpPr>
                  <p:spPr>
                    <a:xfrm flipH="1" rot="2664600">
                      <a:off x="400716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62"/>
                    <p:cNvSpPr/>
                    <p:nvPr/>
                  </p:nvSpPr>
                  <p:spPr>
                    <a:xfrm flipH="1" rot="2664600">
                      <a:off x="3461760" y="66744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63"/>
                  <p:cNvGrpSpPr/>
                  <p:nvPr/>
                </p:nvGrpSpPr>
                <p:grpSpPr>
                  <a:xfrm>
                    <a:off x="4027320" y="337680"/>
                    <a:ext cx="1462320" cy="1885680"/>
                    <a:chOff x="4027320" y="337680"/>
                    <a:chExt cx="1462320" cy="1885680"/>
                  </a:xfrm>
                </p:grpSpPr>
                <p:sp>
                  <p:nvSpPr>
                    <p:cNvPr id="547" name="Freeform 64"/>
                    <p:cNvSpPr/>
                    <p:nvPr/>
                  </p:nvSpPr>
                  <p:spPr>
                    <a:xfrm flipH="1" rot="3474000">
                      <a:off x="4338360" y="1446840"/>
                      <a:ext cx="135684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5"/>
                    <p:cNvSpPr/>
                    <p:nvPr/>
                  </p:nvSpPr>
                  <p:spPr>
                    <a:xfrm flipH="1" rot="3474000">
                      <a:off x="4032720" y="548640"/>
                      <a:ext cx="7282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66"/>
                  <p:cNvGrpSpPr/>
                  <p:nvPr/>
                </p:nvGrpSpPr>
                <p:grpSpPr>
                  <a:xfrm>
                    <a:off x="4446720" y="245160"/>
                    <a:ext cx="1125360" cy="1948320"/>
                    <a:chOff x="4446720" y="245160"/>
                    <a:chExt cx="1125360" cy="1948320"/>
                  </a:xfrm>
                </p:grpSpPr>
                <p:sp>
                  <p:nvSpPr>
                    <p:cNvPr id="550" name="Freeform 67"/>
                    <p:cNvSpPr/>
                    <p:nvPr/>
                  </p:nvSpPr>
                  <p:spPr>
                    <a:xfrm flipH="1" rot="4126800">
                      <a:off x="4557240" y="1402920"/>
                      <a:ext cx="13082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8"/>
                    <p:cNvSpPr/>
                    <p:nvPr/>
                  </p:nvSpPr>
                  <p:spPr>
                    <a:xfrm flipH="1" rot="4126800">
                      <a:off x="4416480" y="439920"/>
                      <a:ext cx="7030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9"/>
                  <p:cNvGrpSpPr/>
                  <p:nvPr/>
                </p:nvGrpSpPr>
                <p:grpSpPr>
                  <a:xfrm>
                    <a:off x="5661720" y="954360"/>
                    <a:ext cx="2313720" cy="1109160"/>
                    <a:chOff x="5661720" y="954360"/>
                    <a:chExt cx="2313720" cy="1109160"/>
                  </a:xfrm>
                </p:grpSpPr>
                <p:sp>
                  <p:nvSpPr>
                    <p:cNvPr id="553" name="Freeform 70"/>
                    <p:cNvSpPr/>
                    <p:nvPr/>
                  </p:nvSpPr>
                  <p:spPr>
                    <a:xfrm rot="20274000">
                      <a:off x="5655600" y="1522800"/>
                      <a:ext cx="151884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71"/>
                    <p:cNvSpPr/>
                    <p:nvPr/>
                  </p:nvSpPr>
                  <p:spPr>
                    <a:xfrm rot="20274000">
                      <a:off x="7112520" y="1091880"/>
                      <a:ext cx="8136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72"/>
                  <p:cNvGrpSpPr/>
                  <p:nvPr/>
                </p:nvGrpSpPr>
                <p:grpSpPr>
                  <a:xfrm>
                    <a:off x="5531040" y="627120"/>
                    <a:ext cx="2197440" cy="1449720"/>
                    <a:chOff x="5531040" y="627120"/>
                    <a:chExt cx="2197440" cy="1449720"/>
                  </a:xfrm>
                </p:grpSpPr>
                <p:sp>
                  <p:nvSpPr>
                    <p:cNvPr id="556" name="Freeform 73"/>
                    <p:cNvSpPr/>
                    <p:nvPr/>
                  </p:nvSpPr>
                  <p:spPr>
                    <a:xfrm rot="19678800">
                      <a:off x="5485320" y="14292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74"/>
                    <p:cNvSpPr/>
                    <p:nvPr/>
                  </p:nvSpPr>
                  <p:spPr>
                    <a:xfrm rot="19678800">
                      <a:off x="6861960" y="81180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Freeform 75"/>
                  <p:cNvSpPr/>
                  <p:nvPr/>
                </p:nvSpPr>
                <p:spPr>
                  <a:xfrm flipH="1" rot="4578600">
                    <a:off x="4765680" y="1469520"/>
                    <a:ext cx="126720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76"/>
                  <p:cNvSpPr/>
                  <p:nvPr/>
                </p:nvSpPr>
                <p:spPr>
                  <a:xfrm flipH="1" rot="4578600">
                    <a:off x="4792320" y="539640"/>
                    <a:ext cx="67896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5358600" y="271800"/>
                    <a:ext cx="1191600" cy="1897200"/>
                    <a:chOff x="5358600" y="271800"/>
                    <a:chExt cx="1191600" cy="1897200"/>
                  </a:xfrm>
                </p:grpSpPr>
                <p:sp>
                  <p:nvSpPr>
                    <p:cNvPr id="561" name="Freeform 78"/>
                    <p:cNvSpPr/>
                    <p:nvPr/>
                  </p:nvSpPr>
                  <p:spPr>
                    <a:xfrm rot="17742000">
                      <a:off x="5090400" y="141696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79"/>
                    <p:cNvSpPr/>
                    <p:nvPr/>
                  </p:nvSpPr>
                  <p:spPr>
                    <a:xfrm rot="17742000">
                      <a:off x="5887440" y="487080"/>
                      <a:ext cx="70128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80"/>
                  <p:cNvGrpSpPr/>
                  <p:nvPr/>
                </p:nvGrpSpPr>
                <p:grpSpPr>
                  <a:xfrm>
                    <a:off x="5352120" y="391320"/>
                    <a:ext cx="1888920" cy="1791000"/>
                    <a:chOff x="5352120" y="391320"/>
                    <a:chExt cx="1888920" cy="1791000"/>
                  </a:xfrm>
                </p:grpSpPr>
                <p:sp>
                  <p:nvSpPr>
                    <p:cNvPr id="564" name="Freeform 81"/>
                    <p:cNvSpPr/>
                    <p:nvPr/>
                  </p:nvSpPr>
                  <p:spPr>
                    <a:xfrm rot="18822600">
                      <a:off x="5252400" y="1387080"/>
                      <a:ext cx="14223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82"/>
                    <p:cNvSpPr/>
                    <p:nvPr/>
                  </p:nvSpPr>
                  <p:spPr>
                    <a:xfrm rot="18822600">
                      <a:off x="6406200" y="587520"/>
                      <a:ext cx="765360" cy="51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83"/>
                  <p:cNvGrpSpPr/>
                  <p:nvPr/>
                </p:nvGrpSpPr>
                <p:grpSpPr>
                  <a:xfrm>
                    <a:off x="5458320" y="296280"/>
                    <a:ext cx="425880" cy="1791360"/>
                    <a:chOff x="5458320" y="296280"/>
                    <a:chExt cx="425880" cy="1791360"/>
                  </a:xfrm>
                </p:grpSpPr>
                <p:sp>
                  <p:nvSpPr>
                    <p:cNvPr id="567" name="Freeform 84"/>
                    <p:cNvSpPr/>
                    <p:nvPr/>
                  </p:nvSpPr>
                  <p:spPr>
                    <a:xfrm rot="16696200">
                      <a:off x="5006880" y="144504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85"/>
                    <p:cNvSpPr/>
                    <p:nvPr/>
                  </p:nvSpPr>
                  <p:spPr>
                    <a:xfrm rot="16696200">
                      <a:off x="5441040" y="5371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6"/>
                  <p:cNvGrpSpPr/>
                  <p:nvPr/>
                </p:nvGrpSpPr>
                <p:grpSpPr>
                  <a:xfrm>
                    <a:off x="3062520" y="2532240"/>
                    <a:ext cx="2195280" cy="3001320"/>
                    <a:chOff x="3062520" y="2532240"/>
                    <a:chExt cx="2195280" cy="3001320"/>
                  </a:xfrm>
                </p:grpSpPr>
                <p:sp>
                  <p:nvSpPr>
                    <p:cNvPr id="570" name="Freeform 87"/>
                    <p:cNvSpPr/>
                    <p:nvPr/>
                  </p:nvSpPr>
                  <p:spPr>
                    <a:xfrm flipH="1" rot="18336000">
                      <a:off x="3418200" y="3315240"/>
                      <a:ext cx="212544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88"/>
                    <p:cNvSpPr/>
                    <p:nvPr/>
                  </p:nvSpPr>
                  <p:spPr>
                    <a:xfrm flipH="1" rot="18336000">
                      <a:off x="3070080" y="459036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89"/>
                  <p:cNvGrpSpPr/>
                  <p:nvPr/>
                </p:nvGrpSpPr>
                <p:grpSpPr>
                  <a:xfrm>
                    <a:off x="3790440" y="2652120"/>
                    <a:ext cx="1485360" cy="2998800"/>
                    <a:chOff x="3790440" y="2652120"/>
                    <a:chExt cx="1485360" cy="2998800"/>
                  </a:xfrm>
                </p:grpSpPr>
                <p:sp>
                  <p:nvSpPr>
                    <p:cNvPr id="573" name="Freeform 90"/>
                    <p:cNvSpPr/>
                    <p:nvPr/>
                  </p:nvSpPr>
                  <p:spPr>
                    <a:xfrm flipH="1" rot="17543400">
                      <a:off x="3738960" y="3441240"/>
                      <a:ext cx="196632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91"/>
                    <p:cNvSpPr/>
                    <p:nvPr/>
                  </p:nvSpPr>
                  <p:spPr>
                    <a:xfrm flipH="1" rot="17543400">
                      <a:off x="3742920" y="4745160"/>
                      <a:ext cx="10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92"/>
                  <p:cNvGrpSpPr/>
                  <p:nvPr/>
                </p:nvGrpSpPr>
                <p:grpSpPr>
                  <a:xfrm>
                    <a:off x="4504320" y="2694240"/>
                    <a:ext cx="870120" cy="2928240"/>
                    <a:chOff x="4504320" y="2694240"/>
                    <a:chExt cx="870120" cy="2928240"/>
                  </a:xfrm>
                </p:grpSpPr>
                <p:sp>
                  <p:nvSpPr>
                    <p:cNvPr id="576" name="Freeform 93"/>
                    <p:cNvSpPr/>
                    <p:nvPr/>
                  </p:nvSpPr>
                  <p:spPr>
                    <a:xfrm flipH="1" rot="16870800">
                      <a:off x="4079160" y="3479400"/>
                      <a:ext cx="188532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94"/>
                    <p:cNvSpPr/>
                    <p:nvPr/>
                  </p:nvSpPr>
                  <p:spPr>
                    <a:xfrm flipH="1" rot="16870800">
                      <a:off x="4361040" y="4802760"/>
                      <a:ext cx="1012320" cy="54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95"/>
                  <p:cNvGrpSpPr/>
                  <p:nvPr/>
                </p:nvGrpSpPr>
                <p:grpSpPr>
                  <a:xfrm>
                    <a:off x="5674680" y="2485080"/>
                    <a:ext cx="2282760" cy="2950560"/>
                    <a:chOff x="5674680" y="2485080"/>
                    <a:chExt cx="2282760" cy="2950560"/>
                  </a:xfrm>
                </p:grpSpPr>
                <p:sp>
                  <p:nvSpPr>
                    <p:cNvPr id="579" name="Freeform 96"/>
                    <p:cNvSpPr/>
                    <p:nvPr/>
                  </p:nvSpPr>
                  <p:spPr>
                    <a:xfrm rot="3144000">
                      <a:off x="5411880" y="325224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97"/>
                    <p:cNvSpPr/>
                    <p:nvPr/>
                  </p:nvSpPr>
                  <p:spPr>
                    <a:xfrm rot="3144000">
                      <a:off x="6801840" y="4498200"/>
                      <a:ext cx="113760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98"/>
                  <p:cNvGrpSpPr/>
                  <p:nvPr/>
                </p:nvGrpSpPr>
                <p:grpSpPr>
                  <a:xfrm>
                    <a:off x="5651640" y="2592000"/>
                    <a:ext cx="1755000" cy="3033000"/>
                    <a:chOff x="5651640" y="2592000"/>
                    <a:chExt cx="1755000" cy="3033000"/>
                  </a:xfrm>
                </p:grpSpPr>
                <p:sp>
                  <p:nvSpPr>
                    <p:cNvPr id="582" name="Freeform 99"/>
                    <p:cNvSpPr/>
                    <p:nvPr/>
                  </p:nvSpPr>
                  <p:spPr>
                    <a:xfrm rot="3745200">
                      <a:off x="5267880" y="3395160"/>
                      <a:ext cx="203508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100"/>
                    <p:cNvSpPr/>
                    <p:nvPr/>
                  </p:nvSpPr>
                  <p:spPr>
                    <a:xfrm rot="3745200">
                      <a:off x="6351480" y="4718160"/>
                      <a:ext cx="109224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101"/>
                  <p:cNvGrpSpPr/>
                  <p:nvPr/>
                </p:nvGrpSpPr>
                <p:grpSpPr>
                  <a:xfrm>
                    <a:off x="5576760" y="2712600"/>
                    <a:ext cx="1226880" cy="2985480"/>
                    <a:chOff x="5576760" y="2712600"/>
                    <a:chExt cx="1226880" cy="2985480"/>
                  </a:xfrm>
                </p:grpSpPr>
                <p:sp>
                  <p:nvSpPr>
                    <p:cNvPr id="585" name="Freeform 102"/>
                    <p:cNvSpPr/>
                    <p:nvPr/>
                  </p:nvSpPr>
                  <p:spPr>
                    <a:xfrm rot="4286400">
                      <a:off x="5047560" y="3543840"/>
                      <a:ext cx="19713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03"/>
                    <p:cNvSpPr/>
                    <p:nvPr/>
                  </p:nvSpPr>
                  <p:spPr>
                    <a:xfrm rot="4286400">
                      <a:off x="5880600" y="488304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104"/>
                  <p:cNvGrpSpPr/>
                  <p:nvPr/>
                </p:nvGrpSpPr>
                <p:grpSpPr>
                  <a:xfrm>
                    <a:off x="5519880" y="2840760"/>
                    <a:ext cx="698760" cy="2778480"/>
                    <a:chOff x="5519880" y="2840760"/>
                    <a:chExt cx="698760" cy="2778480"/>
                  </a:xfrm>
                </p:grpSpPr>
                <p:sp>
                  <p:nvSpPr>
                    <p:cNvPr id="588" name="Freeform 105"/>
                    <p:cNvSpPr/>
                    <p:nvPr/>
                  </p:nvSpPr>
                  <p:spPr>
                    <a:xfrm rot="4898400">
                      <a:off x="4895280" y="3607560"/>
                      <a:ext cx="181332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106"/>
                    <p:cNvSpPr/>
                    <p:nvPr/>
                  </p:nvSpPr>
                  <p:spPr>
                    <a:xfrm rot="4898400">
                      <a:off x="5425560" y="4864680"/>
                      <a:ext cx="97236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07"/>
                  <p:cNvGrpSpPr/>
                  <p:nvPr/>
                </p:nvGrpSpPr>
                <p:grpSpPr>
                  <a:xfrm>
                    <a:off x="4959720" y="2887200"/>
                    <a:ext cx="666720" cy="2718000"/>
                    <a:chOff x="4959720" y="2887200"/>
                    <a:chExt cx="666720" cy="2718000"/>
                  </a:xfrm>
                </p:grpSpPr>
                <p:sp>
                  <p:nvSpPr>
                    <p:cNvPr id="591" name="Freeform 108"/>
                    <p:cNvSpPr/>
                    <p:nvPr/>
                  </p:nvSpPr>
                  <p:spPr>
                    <a:xfrm rot="5755200">
                      <a:off x="4533120" y="3664800"/>
                      <a:ext cx="1773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109"/>
                    <p:cNvSpPr/>
                    <p:nvPr/>
                  </p:nvSpPr>
                  <p:spPr>
                    <a:xfrm rot="5755200">
                      <a:off x="4713120" y="4930560"/>
                      <a:ext cx="9529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Group 110"/>
              <p:cNvGrpSpPr/>
              <p:nvPr/>
            </p:nvGrpSpPr>
            <p:grpSpPr>
              <a:xfrm>
                <a:off x="2175120" y="683640"/>
                <a:ext cx="6732000" cy="4521600"/>
                <a:chOff x="2175120" y="683640"/>
                <a:chExt cx="6732000" cy="4521600"/>
              </a:xfrm>
            </p:grpSpPr>
            <p:grpSp>
              <p:nvGrpSpPr>
                <p:cNvPr id="594" name="Group 111"/>
                <p:cNvGrpSpPr/>
                <p:nvPr/>
              </p:nvGrpSpPr>
              <p:grpSpPr>
                <a:xfrm>
                  <a:off x="2175120" y="683640"/>
                  <a:ext cx="6732000" cy="4521600"/>
                  <a:chOff x="2175120" y="683640"/>
                  <a:chExt cx="6732000" cy="4521600"/>
                </a:xfrm>
              </p:grpSpPr>
              <p:sp>
                <p:nvSpPr>
                  <p:cNvPr id="595" name="Arc 112"/>
                  <p:cNvSpPr/>
                  <p:nvPr/>
                </p:nvSpPr>
                <p:spPr>
                  <a:xfrm flipV="1">
                    <a:off x="5743080" y="859680"/>
                    <a:ext cx="3164040" cy="2522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rc 113"/>
                  <p:cNvSpPr/>
                  <p:nvPr/>
                </p:nvSpPr>
                <p:spPr>
                  <a:xfrm flipH="1">
                    <a:off x="2562480" y="2271240"/>
                    <a:ext cx="24883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rc 114"/>
                  <p:cNvSpPr/>
                  <p:nvPr/>
                </p:nvSpPr>
                <p:spPr>
                  <a:xfrm>
                    <a:off x="5820480" y="1753560"/>
                    <a:ext cx="17596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rc 115"/>
                  <p:cNvSpPr/>
                  <p:nvPr/>
                </p:nvSpPr>
                <p:spPr>
                  <a:xfrm flipH="1">
                    <a:off x="2174760" y="1299960"/>
                    <a:ext cx="31309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rc 116"/>
                  <p:cNvSpPr/>
                  <p:nvPr/>
                </p:nvSpPr>
                <p:spPr>
                  <a:xfrm flipH="1">
                    <a:off x="3058560" y="683640"/>
                    <a:ext cx="22824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rc 117"/>
                  <p:cNvSpPr/>
                  <p:nvPr/>
                </p:nvSpPr>
                <p:spPr>
                  <a:xfrm>
                    <a:off x="5492520" y="1878120"/>
                    <a:ext cx="9396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18"/>
                  <p:cNvSpPr/>
                  <p:nvPr/>
                </p:nvSpPr>
                <p:spPr>
                  <a:xfrm flipH="1">
                    <a:off x="4301280" y="837360"/>
                    <a:ext cx="51408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119"/>
                <p:cNvSpPr/>
                <p:nvPr/>
              </p:nvSpPr>
              <p:spPr>
                <a:xfrm rot="20253000">
                  <a:off x="6127200" y="218268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Group 120"/>
            <p:cNvGrpSpPr/>
            <p:nvPr/>
          </p:nvGrpSpPr>
          <p:grpSpPr>
            <a:xfrm>
              <a:off x="2356920" y="733320"/>
              <a:ext cx="6397920" cy="4707720"/>
              <a:chOff x="2356920" y="733320"/>
              <a:chExt cx="6397920" cy="4707720"/>
            </a:xfrm>
          </p:grpSpPr>
          <p:sp>
            <p:nvSpPr>
              <p:cNvPr id="604" name="Freeform 121"/>
              <p:cNvSpPr/>
              <p:nvPr/>
            </p:nvSpPr>
            <p:spPr>
              <a:xfrm flipH="1">
                <a:off x="4478760" y="325512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122"/>
              <p:cNvSpPr/>
              <p:nvPr/>
            </p:nvSpPr>
            <p:spPr>
              <a:xfrm flipH="1">
                <a:off x="3394800" y="2599920"/>
                <a:ext cx="26118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rc 123"/>
              <p:cNvSpPr/>
              <p:nvPr/>
            </p:nvSpPr>
            <p:spPr>
              <a:xfrm flipH="1">
                <a:off x="3656520" y="2142720"/>
                <a:ext cx="1530720" cy="29336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rc 124"/>
              <p:cNvSpPr/>
              <p:nvPr/>
            </p:nvSpPr>
            <p:spPr>
              <a:xfrm flipH="1">
                <a:off x="2356920" y="1759320"/>
                <a:ext cx="29246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rc 125"/>
              <p:cNvSpPr/>
              <p:nvPr/>
            </p:nvSpPr>
            <p:spPr>
              <a:xfrm>
                <a:off x="5594040" y="2171160"/>
                <a:ext cx="4687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rc 126"/>
              <p:cNvSpPr/>
              <p:nvPr/>
            </p:nvSpPr>
            <p:spPr>
              <a:xfrm>
                <a:off x="5717160" y="2157480"/>
                <a:ext cx="12355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27"/>
              <p:cNvSpPr/>
              <p:nvPr/>
            </p:nvSpPr>
            <p:spPr>
              <a:xfrm>
                <a:off x="6160320" y="356724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28"/>
              <p:cNvSpPr/>
              <p:nvPr/>
            </p:nvSpPr>
            <p:spPr>
              <a:xfrm flipV="1" rot="19660800">
                <a:off x="5233320" y="2967480"/>
                <a:ext cx="5428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29"/>
              <p:cNvSpPr/>
              <p:nvPr/>
            </p:nvSpPr>
            <p:spPr>
              <a:xfrm flipH="1">
                <a:off x="2700000" y="3404520"/>
                <a:ext cx="13356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0"/>
              <p:cNvSpPr/>
              <p:nvPr/>
            </p:nvSpPr>
            <p:spPr>
              <a:xfrm flipH="1">
                <a:off x="3328560" y="1418760"/>
                <a:ext cx="8564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1"/>
              <p:cNvSpPr/>
              <p:nvPr/>
            </p:nvSpPr>
            <p:spPr>
              <a:xfrm>
                <a:off x="7515360" y="3128040"/>
                <a:ext cx="123948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2"/>
              <p:cNvSpPr/>
              <p:nvPr/>
            </p:nvSpPr>
            <p:spPr>
              <a:xfrm>
                <a:off x="6871680" y="2130120"/>
                <a:ext cx="186840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3"/>
              <p:cNvSpPr/>
              <p:nvPr/>
            </p:nvSpPr>
            <p:spPr>
              <a:xfrm>
                <a:off x="6940800" y="73332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4"/>
              <p:cNvSpPr/>
              <p:nvPr/>
            </p:nvSpPr>
            <p:spPr>
              <a:xfrm flipH="1" rot="1347000">
                <a:off x="4193280" y="2174400"/>
                <a:ext cx="54180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70A-9619-4E94-AB95-316F2817B0D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60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840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846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2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84E8-60D2-4F45-B6C8-D1DE61CD49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0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1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1C7-01A1-4DE3-815E-8B029623D59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Электробезопасно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357200" y="3885840"/>
            <a:ext cx="64152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спубликанский институт последипломного образования инженерно –педагогических работник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храна труд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а сохранения жизни и здоровья работников в процессе трудовой деятельности, включающая в себя правовые, социально-экономические, организационно технические, санитарно-гигиенические, лечебно-профилактические, реабилитационные и иные мероприят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ктробезопасн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плекс мероприятий в области охраны труда подразумевает такие направления деятельности, как создание безопасных условий пребывания обучающихся и персонала, соблюдение санитарно-гигиенического режима, мер противопожарной безопасности и электробезопасности, обучение безопасному поведению. Знанию норм и правил охраны труда, ведение обязательной документации, определяемой номенклатурой дел, и многое друг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электробезопас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ая квалификация лиц ответственных за электро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о работников, которые могут обслуживать электрооборудование и осветительную сеть в образовательном учре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не в достаточном количестве и не всегда испытываются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ся медицинский осмотр работников. Выполняющих работы с повышенной опас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авила безопасной электроустановок потреб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2. Специалисты службы охраны труда обязаны контролировать безопасную эксплуатацию электроустановок и должны иметь группу четыре по электробезопас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3. Запрещается возлагать на энергослужбу обязанности, не входящие в ее профессиональную компетенц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облемы электробезопасности имеют комплексный характ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-Создание этого направления охраны труда определено целями государственной политики в области охраны труда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4:56:48Z</dcterms:created>
  <dc:creator>Василевский</dc:creator>
  <dc:description/>
  <dc:language>en-US</dc:language>
  <cp:lastModifiedBy>user</cp:lastModifiedBy>
  <dcterms:modified xsi:type="dcterms:W3CDTF">2016-12-19T07:07:17Z</dcterms:modified>
  <cp:revision>42</cp:revision>
  <dc:subject/>
  <dc:title>Опасности электрических систем</dc:title>
</cp:coreProperties>
</file>